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9D2-1D6A-45A6-9441-B6C151AF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1C4-0193-401D-9605-5C7DFB8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07C-9F63-4190-8B15-FA0EEBD3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0B4-A9E0-46DC-9F49-145BD43A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143-13B0-4C42-BF89-B19F9C5F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B2C-6408-47B9-BB24-F08C06F8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C6C-FF11-43DE-A757-EEF9A817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130-EA82-4BBF-A1B0-648EB462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F3A-A03E-424A-89BF-49C999DD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C03-4B93-4029-8DFF-72480EB2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8FD-47C6-4677-A3C1-8956D50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1F0-4784-4925-899F-B8160F1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057C-A00A-4B78-9563-4F37C76B9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56960" y="236160"/>
            <a:ext cx="78771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理刮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5397120"/>
            <a:ext cx="830592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步：点击刮刀清理，这时设备工作平台自动下降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定高度，然后刮刀向前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m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503280" y="1216080"/>
            <a:ext cx="83059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步：戴好手套拿上刮刀清理工具（即内六角扳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457200" y="1146240"/>
            <a:ext cx="82296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40"/>
            <a:ext cx="81835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刮刀清理工具至于刮刀刀刃底部来回的刮，发现有异物多刮几次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到刮干净为止。刮刀两边都要进行清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" descr=""/>
          <p:cNvPicPr/>
          <p:nvPr/>
        </p:nvPicPr>
        <p:blipFill>
          <a:blip r:embed="rId1"/>
          <a:stretch/>
        </p:blipFill>
        <p:spPr>
          <a:xfrm>
            <a:off x="504720" y="1695600"/>
            <a:ext cx="81345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64960"/>
            <a:ext cx="82296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时刮刀清理时细小的残渣难以被发现，这时用手指来回触摸刀刃底部，当触摸到异物时用刮刀清理工具进行清理，直到刮刀干净。</a:t>
            </a:r>
            <a:br>
              <a:rPr sz="2400"/>
            </a:br>
            <a:br>
              <a:rPr sz="2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刮刀清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理刮刀后请保持室内卫生，发现有材料滴到刮刀或盖板上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及时擦干净，刮刀清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刮刀清理完毕后点击进入准备状态按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457200" y="177624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7T02:26:30Z</dcterms:created>
  <dc:creator>Administrator</dc:creator>
  <dc:description/>
  <dc:language>en-US</dc:language>
  <cp:lastModifiedBy>Administrator</cp:lastModifiedBy>
  <dcterms:modified xsi:type="dcterms:W3CDTF">2019-07-17T02:38:14Z</dcterms:modified>
  <cp:revision>7</cp:revision>
  <dc:subject/>
  <dc:title>清理刮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808</vt:lpwstr>
  </property>
</Properties>
</file>